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CDB-074A-4EEC-BB61-5D51643B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FAC-F351-4D73-82D3-E887CECF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A16-3AEC-4DBF-B40C-1FD678F8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300-A18F-4647-A3CA-B630E07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0EC8-6E18-4850-B79F-22D52084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9DE4-8BAE-492F-A4FB-55F84D9A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BE17-3522-439A-823C-D7B1D63C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196C-A7C4-46E7-82F3-54230FE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7640-51C3-4E3B-9C6A-01477FD7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4EAC-3C75-4D6F-81D1-3762A577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4AD-78A2-4AD5-8119-BE7F9F5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257-FACD-402C-9389-3097FE12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A41-6ABE-4E6D-9251-226E10E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8161-67BE-4E19-AD3A-F6C31D3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B635-4566-4959-BAB3-E438950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78E4-CF35-4A24-999F-57021A2D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08D1-9652-4FE9-AEA5-43509F76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E1B-F624-47F3-98DF-37BAA74C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1DC-7BD6-4825-ADFF-BC0338A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02A-DE0F-469C-8F6B-6722FBAB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D39-AAF4-46F5-9711-B057FDC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7D8-E544-48C2-9A8B-A271514C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E49-DA1F-497C-ABFC-7D78972F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A55-8D34-45AC-8D04-2CCF5F1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F1A8-F3EF-4A4C-8903-08794506E0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428-4358-4ACD-B7ED-3A6C46A104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Me llamo _________ Clase 6NH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La fecha es el 27 de enero del 2012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Propósito # 36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practicamos el Repaso 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ra la foto en la p. R6 del TEXTO y COPIA y responde las siguiente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uántas muchachas hay en la fotografí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De dónde son ella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Están en el parqu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Tienen bicicleta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Garamond"/>
              </a:rPr>
              <a:t>Practica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istorieta 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.R7 (1-8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Es grande o pequeña tu clase de españo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De dónde es la profesora de españo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Es interesante la clase de españo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Es difícil o fáci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s clases de ciencias y matemáticas, ¿son grandes o pequeña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ti, ¿los cursos de ciencias son fáciles o difícil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uál es tu clase favorit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ién es tu profesor(a) favorito(a)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Garamond"/>
              </a:rPr>
              <a:t>Ejercicio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00"/>
                </a:solidFill>
                <a:latin typeface="Verdana"/>
              </a:rPr>
              <a:t>I-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 y comple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Karina no es baja. Es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ax no es antipático. Es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aleria no es fea. Es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niel no es pelirrojo y no es rubio. Es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00"/>
                </a:solidFill>
                <a:latin typeface="Verdana"/>
              </a:rPr>
              <a:t>II-</a:t>
            </a:r>
            <a:r>
              <a:rPr b="0" lang="es-ES_tradnl" sz="24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presa la misma idea usando una palabra dife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la e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uap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la e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racio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Garamond"/>
              </a:rPr>
              <a:t>Tarea # 36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7:29Z</dcterms:created>
  <dc:creator>Helen Zumaeta</dc:creator>
  <dc:description/>
  <dc:language>en-US</dc:language>
  <cp:lastModifiedBy>Helen Zumaeta</cp:lastModifiedBy>
  <dcterms:modified xsi:type="dcterms:W3CDTF">2012-01-27T19:19:19Z</dcterms:modified>
  <cp:revision>9</cp:revision>
  <dc:subject/>
  <dc:title>Slide 1</dc:title>
</cp:coreProperties>
</file>